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50C-EDD8-43AB-AB63-4D8D4D54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780-7AA1-40D5-ADC2-643492B0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6F54-2181-4568-9849-FE60631C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9FF5-D4EA-48EB-9630-C667735D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E4A2-D4E1-4977-8C62-ED2BD2EC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D746-2205-4D6E-A2C9-AAE1E8BA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7B4-7329-4ED0-8F99-2216CA67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509-2656-41FD-B498-53E902B2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137-74FB-4530-ACC6-312A530D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437-9A42-45E8-B928-DB967CE2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478-53FB-4A52-9920-3542D5BB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17B-4067-4927-9169-D230535D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BD54-B571-4E88-AC5C-848E1EAE5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odel for MEMPHY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MM pac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.E Camp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d 20/06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pdated </a:t>
            </a:r>
            <a:fld id="{7932C3E6-ED35-4D2D-9E46-B1CD53927BAC}" type="datetime">
              <a:rPr b="0" lang="fr-FR" sz="3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45920" y="896760"/>
            <a:ext cx="1449720" cy="1177920"/>
            <a:chOff x="745920" y="896760"/>
            <a:chExt cx="1449720" cy="1177920"/>
          </a:xfrm>
        </p:grpSpPr>
        <p:sp>
          <p:nvSpPr>
            <p:cNvPr id="44" name=""/>
            <p:cNvSpPr/>
            <p:nvPr/>
          </p:nvSpPr>
          <p:spPr>
            <a:xfrm>
              <a:off x="75564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WCDig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45920" y="1341360"/>
              <a:ext cx="14090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effective # p.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 WCh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2797920" y="896760"/>
            <a:ext cx="1544760" cy="1177920"/>
            <a:chOff x="2797920" y="896760"/>
            <a:chExt cx="1544760" cy="1177920"/>
          </a:xfrm>
        </p:grpSpPr>
        <p:sp>
          <p:nvSpPr>
            <p:cNvPr id="47" name=""/>
            <p:cNvSpPr/>
            <p:nvPr/>
          </p:nvSpPr>
          <p:spPr>
            <a:xfrm>
              <a:off x="280656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WCH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97920" y="1341360"/>
              <a:ext cx="15447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M 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otal # p.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ector of Ti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900680" y="896760"/>
            <a:ext cx="1444680" cy="1177920"/>
            <a:chOff x="4900680" y="896760"/>
            <a:chExt cx="1444680" cy="1177920"/>
          </a:xfrm>
        </p:grpSpPr>
        <p:sp>
          <p:nvSpPr>
            <p:cNvPr id="50" name=""/>
            <p:cNvSpPr/>
            <p:nvPr/>
          </p:nvSpPr>
          <p:spPr>
            <a:xfrm>
              <a:off x="490536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00680" y="1341360"/>
              <a:ext cx="4334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949440" y="896760"/>
            <a:ext cx="1604160" cy="1391040"/>
            <a:chOff x="6949440" y="896760"/>
            <a:chExt cx="1604160" cy="1391040"/>
          </a:xfrm>
        </p:grpSpPr>
        <p:sp>
          <p:nvSpPr>
            <p:cNvPr id="53" name=""/>
            <p:cNvSpPr/>
            <p:nvPr/>
          </p:nvSpPr>
          <p:spPr>
            <a:xfrm>
              <a:off x="695772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arti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49440" y="1341360"/>
              <a:ext cx="160416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DG 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5-momen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roduction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End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687000" y="2565360"/>
            <a:ext cx="1771920" cy="976320"/>
            <a:chOff x="6687000" y="2565360"/>
            <a:chExt cx="1771920" cy="976320"/>
          </a:xfrm>
        </p:grpSpPr>
        <p:sp>
          <p:nvSpPr>
            <p:cNvPr id="56" name=""/>
            <p:cNvSpPr/>
            <p:nvPr/>
          </p:nvSpPr>
          <p:spPr>
            <a:xfrm>
              <a:off x="6696000" y="2565360"/>
              <a:ext cx="176292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CParti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87000" y="3021480"/>
              <a:ext cx="10584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sPri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tart 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92120" y="2565360"/>
            <a:ext cx="1774440" cy="1189800"/>
            <a:chOff x="4092120" y="2565360"/>
            <a:chExt cx="1774440" cy="1189800"/>
          </a:xfrm>
        </p:grpSpPr>
        <p:sp>
          <p:nvSpPr>
            <p:cNvPr id="59" name=""/>
            <p:cNvSpPr/>
            <p:nvPr/>
          </p:nvSpPr>
          <p:spPr>
            <a:xfrm>
              <a:off x="4103640" y="2565360"/>
              <a:ext cx="1762920" cy="45720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t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2120" y="3021840"/>
              <a:ext cx="169380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ncoming parti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outgoing partic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86520" y="2421000"/>
            <a:ext cx="2518200" cy="764640"/>
            <a:chOff x="686520" y="2421000"/>
            <a:chExt cx="2518200" cy="764640"/>
          </a:xfrm>
        </p:grpSpPr>
        <p:sp>
          <p:nvSpPr>
            <p:cNvPr id="62" name=""/>
            <p:cNvSpPr/>
            <p:nvPr/>
          </p:nvSpPr>
          <p:spPr>
            <a:xfrm>
              <a:off x="700560" y="2421000"/>
              <a:ext cx="250416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erenkovIm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520" y="2878560"/>
              <a:ext cx="17121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ector of WCDig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360" y="4149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9640" y="5465880"/>
            <a:ext cx="1245960" cy="909000"/>
            <a:chOff x="539640" y="5465880"/>
            <a:chExt cx="1245960" cy="909000"/>
          </a:xfrm>
        </p:grpSpPr>
        <p:sp>
          <p:nvSpPr>
            <p:cNvPr id="66" name=""/>
            <p:cNvSpPr/>
            <p:nvPr/>
          </p:nvSpPr>
          <p:spPr>
            <a:xfrm>
              <a:off x="539640" y="5465880"/>
              <a:ext cx="124596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ase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4320" y="5854680"/>
              <a:ext cx="73836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843280" y="4387680"/>
            <a:ext cx="1935000" cy="1122120"/>
            <a:chOff x="2843280" y="4387680"/>
            <a:chExt cx="1935000" cy="1122120"/>
          </a:xfrm>
        </p:grpSpPr>
        <p:sp>
          <p:nvSpPr>
            <p:cNvPr id="69" name=""/>
            <p:cNvSpPr/>
            <p:nvPr/>
          </p:nvSpPr>
          <p:spPr>
            <a:xfrm>
              <a:off x="2843280" y="4387680"/>
              <a:ext cx="193500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Data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44720" y="4776480"/>
              <a:ext cx="146520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getNextIndex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setIndex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etIndex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843280" y="5821200"/>
            <a:ext cx="1935000" cy="695880"/>
            <a:chOff x="2843280" y="5821200"/>
            <a:chExt cx="1935000" cy="695880"/>
          </a:xfrm>
        </p:grpSpPr>
        <p:sp>
          <p:nvSpPr>
            <p:cNvPr id="72" name=""/>
            <p:cNvSpPr/>
            <p:nvPr/>
          </p:nvSpPr>
          <p:spPr>
            <a:xfrm>
              <a:off x="2843280" y="5821200"/>
              <a:ext cx="193500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ata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47240" y="6210000"/>
              <a:ext cx="720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012000" y="4149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381720" y="4821120"/>
            <a:ext cx="1935360" cy="1122120"/>
            <a:chOff x="6381720" y="4821120"/>
            <a:chExt cx="1935360" cy="1122120"/>
          </a:xfrm>
        </p:grpSpPr>
        <p:sp>
          <p:nvSpPr>
            <p:cNvPr id="76" name=""/>
            <p:cNvSpPr/>
            <p:nvPr/>
          </p:nvSpPr>
          <p:spPr>
            <a:xfrm>
              <a:off x="6381720" y="4821120"/>
              <a:ext cx="193536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Stor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85320" y="5209920"/>
              <a:ext cx="7689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as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isi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a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428880" y="4286160"/>
            <a:ext cx="1956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enScientist li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6880" y="333360"/>
            <a:ext cx="1843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6480" y="4421160"/>
            <a:ext cx="180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MPHYS ut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7960" y="3284640"/>
            <a:ext cx="2228040" cy="764640"/>
            <a:chOff x="687960" y="3284640"/>
            <a:chExt cx="2228040" cy="764640"/>
          </a:xfrm>
        </p:grpSpPr>
        <p:sp>
          <p:nvSpPr>
            <p:cNvPr id="82" name=""/>
            <p:cNvSpPr/>
            <p:nvPr/>
          </p:nvSpPr>
          <p:spPr>
            <a:xfrm>
              <a:off x="698760" y="3284640"/>
              <a:ext cx="221724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erenkovC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7960" y="3742200"/>
              <a:ext cx="909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4149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4149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28680" y="4387680"/>
            <a:ext cx="5457600" cy="1502280"/>
            <a:chOff x="328680" y="4387680"/>
            <a:chExt cx="5457600" cy="1502280"/>
          </a:xfrm>
        </p:grpSpPr>
        <p:sp>
          <p:nvSpPr>
            <p:cNvPr id="87" name=""/>
            <p:cNvSpPr/>
            <p:nvPr/>
          </p:nvSpPr>
          <p:spPr>
            <a:xfrm>
              <a:off x="3132000" y="4618080"/>
              <a:ext cx="124632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ase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43280" y="4618080"/>
              <a:ext cx="114300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Stor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328680" y="4387680"/>
              <a:ext cx="1646280" cy="1425600"/>
              <a:chOff x="328680" y="4387680"/>
              <a:chExt cx="1646280" cy="1425600"/>
            </a:xfrm>
          </p:grpSpPr>
          <p:sp>
            <p:nvSpPr>
              <p:cNvPr id="90" name=""/>
              <p:cNvSpPr/>
              <p:nvPr/>
            </p:nvSpPr>
            <p:spPr>
              <a:xfrm>
                <a:off x="328680" y="4387680"/>
                <a:ext cx="1646280" cy="3682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IDataServic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8920" y="5445000"/>
                <a:ext cx="1584360" cy="3682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DataServic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1152360" y="4724280"/>
                <a:ext cx="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168360" y="5432400"/>
              <a:ext cx="11718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"/>
            <p:cNvCxnSpPr>
              <a:stCxn id="93" idx="3"/>
              <a:endCxn id="88" idx="2"/>
            </p:cNvCxnSpPr>
            <p:nvPr/>
          </p:nvCxnSpPr>
          <p:spPr>
            <a:xfrm flipV="1">
              <a:off x="4325760" y="4994280"/>
              <a:ext cx="889920" cy="660600"/>
            </a:xfrm>
            <a:prstGeom prst="bentConnector2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93" idx="0"/>
              <a:endCxn id="87" idx="2"/>
            </p:cNvCxnSpPr>
            <p:nvPr/>
          </p:nvCxnSpPr>
          <p:spPr>
            <a:xfrm flipV="1">
              <a:off x="3754440" y="4993560"/>
              <a:ext cx="2160" cy="43884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87" idx="1"/>
              <a:endCxn id="90" idx="3"/>
            </p:cNvCxnSpPr>
            <p:nvPr/>
          </p:nvCxnSpPr>
          <p:spPr>
            <a:xfrm rot="10800000">
              <a:off x="1974960" y="4575960"/>
              <a:ext cx="1157400" cy="231120"/>
            </a:xfrm>
            <a:prstGeom prst="curvedConnector5">
              <a:avLst>
                <a:gd name="adj1" fmla="val 49937"/>
                <a:gd name="adj2" fmla="val 49921"/>
                <a:gd name="adj3" fmla="val 49937"/>
              </a:avLst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</p:grpSp>
      <p:sp>
        <p:nvSpPr>
          <p:cNvPr id="97" name=""/>
          <p:cNvSpPr/>
          <p:nvPr/>
        </p:nvSpPr>
        <p:spPr>
          <a:xfrm>
            <a:off x="6372360" y="4437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46720" y="41688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3640" y="479736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90360" y="4529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54360" y="503244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: « many »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2640" y="1244520"/>
            <a:ext cx="144000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CDig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6560" y="1244520"/>
            <a:ext cx="144000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C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05360" y="1244520"/>
            <a:ext cx="144000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58080" y="1244520"/>
            <a:ext cx="143964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463680"/>
            <a:ext cx="176364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C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04000" y="2408400"/>
            <a:ext cx="140472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2257560"/>
            <a:ext cx="25048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renkov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2" idx="3"/>
            <a:endCxn id="103" idx="1"/>
          </p:cNvCxnSpPr>
          <p:nvPr/>
        </p:nvCxnSpPr>
        <p:spPr>
          <a:xfrm>
            <a:off x="2222640" y="1466640"/>
            <a:ext cx="58464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0" name=""/>
          <p:cNvCxnSpPr>
            <a:stCxn id="103" idx="3"/>
            <a:endCxn id="104" idx="1"/>
          </p:cNvCxnSpPr>
          <p:nvPr/>
        </p:nvCxnSpPr>
        <p:spPr>
          <a:xfrm>
            <a:off x="4246560" y="1466640"/>
            <a:ext cx="65952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1" name=""/>
          <p:cNvCxnSpPr>
            <a:stCxn id="105" idx="1"/>
            <a:endCxn id="104" idx="3"/>
          </p:cNvCxnSpPr>
          <p:nvPr/>
        </p:nvCxnSpPr>
        <p:spPr>
          <a:xfrm rot="10800000">
            <a:off x="6344640" y="1466280"/>
            <a:ext cx="61344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6714000" y="1060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06" idx="2"/>
            <a:endCxn id="105" idx="0"/>
          </p:cNvCxnSpPr>
          <p:nvPr/>
        </p:nvCxnSpPr>
        <p:spPr>
          <a:xfrm rot="5400000">
            <a:off x="7513920" y="1072080"/>
            <a:ext cx="337320" cy="8640"/>
          </a:xfrm>
          <a:prstGeom prst="curvedConnector5">
            <a:avLst>
              <a:gd name="adj1" fmla="val 50000"/>
              <a:gd name="adj2" fmla="val 47826"/>
              <a:gd name="adj3" fmla="val 50000"/>
            </a:avLst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4" name=""/>
          <p:cNvCxnSpPr>
            <a:stCxn id="107" idx="0"/>
            <a:endCxn id="104" idx="2"/>
          </p:cNvCxnSpPr>
          <p:nvPr/>
        </p:nvCxnSpPr>
        <p:spPr>
          <a:xfrm flipV="1" rot="16200000">
            <a:off x="5756400" y="1557720"/>
            <a:ext cx="720000" cy="981720"/>
          </a:xfrm>
          <a:prstGeom prst="curvedConnector5">
            <a:avLst>
              <a:gd name="adj1" fmla="val 49874"/>
              <a:gd name="adj2" fmla="val 50000"/>
              <a:gd name="adj3" fmla="val 49874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" name=""/>
          <p:cNvCxnSpPr>
            <a:stCxn id="107" idx="0"/>
            <a:endCxn id="105" idx="2"/>
          </p:cNvCxnSpPr>
          <p:nvPr/>
        </p:nvCxnSpPr>
        <p:spPr>
          <a:xfrm flipH="1" flipV="1" rot="5400000">
            <a:off x="6782760" y="1512360"/>
            <a:ext cx="720000" cy="1072440"/>
          </a:xfrm>
          <a:prstGeom prst="curvedConnector5">
            <a:avLst>
              <a:gd name="adj1" fmla="val 49874"/>
              <a:gd name="adj2" fmla="val 50000"/>
              <a:gd name="adj3" fmla="val 49874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6" name=""/>
          <p:cNvCxnSpPr>
            <a:stCxn id="107" idx="3"/>
            <a:endCxn id="105" idx="3"/>
          </p:cNvCxnSpPr>
          <p:nvPr/>
        </p:nvCxnSpPr>
        <p:spPr>
          <a:xfrm flipV="1">
            <a:off x="7308360" y="1466640"/>
            <a:ext cx="1089720" cy="1164240"/>
          </a:xfrm>
          <a:prstGeom prst="curvedConnector5">
            <a:avLst>
              <a:gd name="adj1" fmla="val 120984"/>
              <a:gd name="adj2" fmla="val 49984"/>
              <a:gd name="adj3" fmla="val 120984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7453440" y="26179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0"/>
            <a:endCxn id="102" idx="2"/>
          </p:cNvCxnSpPr>
          <p:nvPr/>
        </p:nvCxnSpPr>
        <p:spPr>
          <a:xfrm flipV="1">
            <a:off x="1503000" y="1688760"/>
            <a:ext cx="1080" cy="56880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1694160" y="198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3271680"/>
            <a:ext cx="216072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renkovC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0"/>
            <a:endCxn id="108" idx="2"/>
          </p:cNvCxnSpPr>
          <p:nvPr/>
        </p:nvCxnSpPr>
        <p:spPr>
          <a:xfrm flipV="1">
            <a:off x="1503000" y="2701080"/>
            <a:ext cx="1080" cy="570600"/>
          </a:xfrm>
          <a:prstGeom prst="curvedConnector2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22" name=""/>
          <p:cNvCxnSpPr>
            <a:stCxn id="120" idx="3"/>
            <a:endCxn id="104" idx="2"/>
          </p:cNvCxnSpPr>
          <p:nvPr/>
        </p:nvCxnSpPr>
        <p:spPr>
          <a:xfrm flipV="1">
            <a:off x="2582640" y="1688760"/>
            <a:ext cx="3043800" cy="180576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477000" y="333360"/>
            <a:ext cx="1547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41280" y="6259680"/>
            <a:ext cx="1486800" cy="368280"/>
          </a:xfrm>
          <a:prstGeom prst="borderCallout2">
            <a:avLst>
              <a:gd name="adj1" fmla="val 18750"/>
              <a:gd name="adj2" fmla="val -8333"/>
              <a:gd name="adj3" fmla="val 30379"/>
              <a:gd name="adj4" fmla="val -20296"/>
              <a:gd name="adj5" fmla="val -96481"/>
              <a:gd name="adj6" fmla="val -25268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ner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52560" y="539280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&lt;class&gt;: Pur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07:29:39Z</dcterms:created>
  <dc:creator>J.E Campagne</dc:creator>
  <dc:description/>
  <dc:language>en-US</dc:language>
  <cp:lastModifiedBy>J.E Campagne</cp:lastModifiedBy>
  <dcterms:modified xsi:type="dcterms:W3CDTF">2007-06-20T09:17:25Z</dcterms:modified>
  <cp:revision>11</cp:revision>
  <dc:subject/>
  <dc:title>Data Model for MEMPHYS DMM package</dc:title>
</cp:coreProperties>
</file>